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939E-83DD-48BC-B0E6-2660C6536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32F4-8B31-4AAF-ABB9-A606C033E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ymptoms need attention from health care profession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dition is known to be an aggravating factor in skin condition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any skin conditions diagno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0E4D-99E2-476A-840D-67B0C493B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ules are small lesions of a different color than normal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ules are small, firm, elevated le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que is large elevated lesion with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dules are elevated les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ts are dry, rough surface or dried exu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 is elevated lesions containing clear fl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ures are small, deep crack or tear in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are cavities with a loss of tissue from epidermis and der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skin lesion definitions, referencing Table 6-1 (p. 22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difference between a macule and a pap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kin layers does an ulcer a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DDA6-8355-42EB-98F2-0D6C5F240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visual symptoms of ski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2D43-0810-4834-B7E2-FB8BDB94E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F8DC-E9A5-44F8-89C7-D29619096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yst and a blis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68A0-20AA-4248-9F64-B0C6B2299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kin lesion is caused by a burrowing organ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883F-15AC-4C0E-80A7-1CE676BE1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dermatitis: inflammation of sebaceous (oil)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es heredity play in ecze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ship between psoriasis and pla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18A2-382B-44B7-89FF-F3452F229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ge group has a high rate of seborrheic dermatitis? (infants commonly suffer from “cradle cap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56B8-1F65-470D-93CB-9D47738C9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ymptoms of acne vulgar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ge groups are most susceptible to acne vulgar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ecautions should be taken by anyone taking Isotretin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retinoin is administered under an FDA program called IPLEDGE. Providers (physicians, nurse practitioners), patients and pharmacists must participate in the IPLEDG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ge groups are most susceptible to herpes zoster?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B3B1-BFA1-43C2-A9A5-B05F9BF86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ymptoms of shing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it manif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recommended treatm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3ED3-7278-4E10-9803-61BA1546C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impetigo lesions most likely to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ree common causes of impeti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acteria responsible for cellulitis most often enter the sk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importance of proper hand washing and cut treatment in preventing cellulit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AD5C-0CBF-4BBD-868B-DB2F25A64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dermatophytoses: a chronic superficial fungal infection of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 determines the type of dermatophytos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with what animal is a likely cause of ringw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advertising for OTC remedies for skin conditions such as athlete’s foot and jock it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CB01-80E5-4A92-B2D9-95CD88316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how complications from bed sores may have contributed to the death, e.g., that of paralyzed actor Christopher Ree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arts of the body are typically affected by li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itch mites and lice spread from person to pers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E2FB-F7B7-45D9-9E87-8CA5A25C4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ighly contagious nature of these paras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methods of transm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ymptons do all of these have in comm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reatment regimens must be followed for li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reatments, primary and secondary, are indicated for scab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DEE4-AF04-43B6-A553-183A52F84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ay be indicated by a sudden increase in number and size of seborrheic keratosis growth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s of reactions are thought to cause dermatofibro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linical manifestations of skin ta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0199-CBC8-497A-8353-38B51CA0D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linical indications of actinic kerat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ype of people are most at risk for actinic kerat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ifferences in treatment of benign and premalignant tumo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A062-1248-4AA4-B9B3-C5CFA992F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evalent form of cancer worldwi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BCC and SCC usually not included on most cancer registr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 of epidermal melanocytes and malignant melanom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894A-37AE-4F3E-9DEE-D8A1EE630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important piece of protective clothing in guarding against excessive sun expo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inimum sun protection factor (spf) sunscreen that should be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id in early detection of skin carcinomas, what should adults do regular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guidelines chart (p. 25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53E7-CD3A-49A5-8029-2BAA8D200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1117440" y="5996160"/>
            <a:ext cx="893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7A45-FCAA-42F9-ABF0-DF2BB655A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different types of abnormal skin pig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d to whom does melasma often occu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which part of the body are port-wine stains usually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moles composed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DEA7-98D8-4527-841B-FC3AFDDA8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treatment for mo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 variety of these conditions can be treated cosme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9678-B0B3-48F4-BF0C-E14625A8B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male-pattern bald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es heredity play in causing baldness in m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s of systemic illnesses can cause baldn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ew drugs have been introduced to help prevent baldn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7D87-2A99-4BC7-9EB1-77D6A53C5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type of wa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warts sprea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f the diseases that can cause deformed or discolored nail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ong do nails damaged by injury usually take to grow bac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5CC6-5709-4AE6-B8D5-28E612CF2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D40D-4A73-41BF-A16C-94778FD5F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0FA3-F6BF-45AF-9403-18A1106F0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orderly functioning of the integumentary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components of the integumentary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ccessory organs of the integumentary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7A7F-C435-4806-A929-4106997C4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orderly functioning of the integumentary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components of the integumentary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ccessory organs of the integumentary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1CC3-485B-462F-9821-F9C145E8A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functions of sk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and discuss the three layers of skin: epidermis, dermis, and subcutaneous l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layer gives skin its strength and elast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849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sevier items and derived items © 2009 by Saunders, an imprint of Elsevier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ssentials of Human Diseases and Conditions </a:t>
            </a:r>
            <a:br>
              <a:rPr sz="40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garet Schell Fraz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nette Wist Drzymkows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aneous lesions or eru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uritis (itch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ema (swell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ythema (red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on Skin Condition Sympto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Few Common Skin Les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5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t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2360" y="1465200"/>
            <a:ext cx="3795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s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kin Les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3800" y="1465200"/>
            <a:ext cx="2590920" cy="1930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2743200" cy="1952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523880" y="3809880"/>
            <a:ext cx="2743200" cy="1941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876920" y="3809880"/>
            <a:ext cx="27432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kin Lesio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the differences between a macule and a papu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ule: small, flat, circumscribed lesion of different color than the rest of the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ule: a small firm, elevated le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kin Lesion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3800" y="1465200"/>
            <a:ext cx="2641680" cy="1971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2743200" cy="1971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523880" y="3886200"/>
            <a:ext cx="2819520" cy="2181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876920" y="3886200"/>
            <a:ext cx="28191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kin Lesio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2590920" cy="1967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2590920" cy="1960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752480" y="3886200"/>
            <a:ext cx="259092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724280" y="3886200"/>
            <a:ext cx="259092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rm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borrheic derm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 derm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pic dermatitis (eczem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or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mon Diseases of the Ski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mon Diseases of the Sk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the differences between seborrheic dermatitis and contact dermatit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orrheic dermatitis – idiopathic condition resulting in overproduction of seb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 dermatitis – localized redness and swelling caused by an irritant or aller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ne vulgar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 inflammatory disease of the sebaceous glands and hair foll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pes zoster (shingles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 acute inflammatory dermatomal eruption of painful ves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mon Diseases of the Skin </a:t>
            </a:r>
            <a:br>
              <a:rPr sz="36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ckenpox is a precursor to shing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re caused by the herpes varicella-zoster vir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mon Diseases of the Sk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66680" y="2286000"/>
            <a:ext cx="731520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pter 6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eases and Conditions of the Integumentar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2492280"/>
            <a:ext cx="73152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apter 6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sson 6.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etigo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gious, superficial skin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llulit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ute, diffuse, bacterial infection of the skin and subcutaneous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mon Diseases of the Sk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rmatophytos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ea cap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ea corporis (ringw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ea unguiu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ea pedis (athlete’s foo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ea cruris (jock itch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2492280"/>
            <a:ext cx="73152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apter 6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sson 6.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ubitis ulcers (bed sores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calized areas of dead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abi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estation by parasitic insects called itch m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diculu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estation by lice; wingless parasites that feed on human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Diseases of the Ski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Diseases of the Sk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es that infest the head and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diculus humanus capit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lice that infest the h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diculus humanus corpor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lice that infest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hthirus pub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pubic lice (crab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rcoptes scabie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itch mi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enign Tumo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borrheic kerat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nign growths originating in the epiderm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rmatofibrom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nign, asymptomatic growths that can be found anywhere on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hrochordon (skin tag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mon benign skin growths found mainly on the axilla, neck, and inguinal areas of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emalignant Tumo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nic kerat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mon pre-malignant lesions found on sun-exposed areas of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s: an area of rough, vascular skin, which later forms a yellow cru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melanoma skin can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al cell carcinoma (BC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quamous cell carcinoma (SC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t melan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BCs of malignant melanom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asymme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= b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=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 = dia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kin Carcinoma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tection of Skin from the Su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exposure 10 a.m.– 3 p.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outdoor activities for early morning or late aftern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r protective cl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un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the functions of the sk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gnize common skin le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how seborrheic dermatitis affects the sk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the common causes of contact dermatitis, atopic dermatitis, and psori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bnormal Skin Pigment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binism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ability to produce melanin (inheri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tilig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le, irregular patches (may be an immune system disord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lasma (chloasma)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tches of darker skin on the 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mangiom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nign lesions of highly vascularized skin; they may be flat (port-wine stains), elevated, or protuber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bnormal Skin Pigmentatio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vi (moles)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mall, dark collections of melanoc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yriasi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ungal infection; causes patches of flaky, light, or dark skin on the tru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normal sunta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usual darkening of the skin resulting from properly used med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14400" y="2514600"/>
            <a:ext cx="7315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apter 6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sson 6.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uses of Alopecia (Baldness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ic il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m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rucae (warts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rts are elevated growths of the epidermis that result from hyperplas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ormed or discolored nail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y unusual thickening, color variation, or change in shape of fingernails or toen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Common Diseases of the Ski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 the treatment of acne vulgar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ain the pathologic course of herpes zo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 the etiology of impeti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ain why the treatment of cellulitis is impor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e examples of classifications of fungal infections of the sk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preventative measures for decubitis ulc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the two most common parasitic insects to infest ma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how infestation can occ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two common premalignant tum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te the three types of skin canc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 the guidelines for avoiding excessive sun expo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 some conditions that are caused by the abnormal development or distribution of melanocy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 some possible causes of alope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the cause of war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 some of the likely causes of deformed or discolored n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2492280"/>
            <a:ext cx="73152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apter 6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sson 6.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n and accessory orga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n l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der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cutaneous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onents of the Integumentary Sy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ormal Ski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48640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7:41:01Z</dcterms:created>
  <dc:creator>Michael &amp; Eleftheria Parafink</dc:creator>
  <dc:description/>
  <cp:keywords/>
  <dc:language>en-US</dc:language>
  <cp:lastModifiedBy>azhagubalan</cp:lastModifiedBy>
  <dcterms:modified xsi:type="dcterms:W3CDTF">2008-01-31T10:33:10Z</dcterms:modified>
  <cp:revision>83</cp:revision>
  <dc:subject/>
  <dc:title>Slide 1</dc:title>
</cp:coreProperties>
</file>